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media/image9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CB1-0B74-4A79-83E1-48DC7D0F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DBA-4D77-4068-9E95-AF71187B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9A7-0E08-48B8-AA91-A78176D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59E-F240-4414-AAA8-BAFEEC42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1AB-AC46-4476-BDE8-2F20EEF5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2B5-8D98-4EFD-B4AA-D39F623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B2E-7274-4A20-8C50-C61E3CF2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661-A95C-4859-9F85-1B278AC4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871-D5A4-4128-B392-4C0D286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C6F7-E4EE-4F8C-B657-C0A0318B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23DE-A148-4A3F-87CB-D959D1C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6A7-E9B8-4FDA-8C29-977ED75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A37-74FD-4A11-842E-E4C87B7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272-D83E-411B-B146-13CE014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06F-C32D-4D68-B74A-DC974E8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553-70AA-4F72-B203-A6E0E109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A72-3002-427F-8327-FFC8017F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D39-2307-470A-AD15-3769518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F5F-AC63-469A-A564-91CEA93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598-B9F4-47F4-9853-5E9E0CC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9F4-F08D-4D2E-B7EB-CA87EACF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243-95D3-4444-9C4D-BB809A9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277-CC21-4B48-9013-3FA2DB3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AF8-8868-4F4B-BEFC-AA881B6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C51-35D5-4B13-AF25-AEB85E6BC3F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9AF-AF1D-4637-A79A-5C5EAD0FBE4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8380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533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Bobby Fos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914400"/>
            <a:ext cx="4267080" cy="33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nformal Roman"/>
              </a:rPr>
              <a:t>Cov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352680" y="3962520"/>
            <a:ext cx="30481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tu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749600" cy="186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238880" y="1371600"/>
            <a:ext cx="1597320" cy="1949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7642800">
            <a:off x="7543080" y="22096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ubject is very important in conveying what a game is about. So it would be needed for game covers, as well as book and DVD covers based on what they are abou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www.gamepro.com/article/news/216772/does-gender-affect-game-reviews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www.hongkiat.com/blog/60-attractive-ps3-game-covers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video.ign.com/dor/articles/894993/ign-game-scoop-tv-how-do-normal-people-see-videogame-box-art/videos/gstv_spc_073010b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066320"/>
            <a:ext cx="8226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0 attractive ps3 game covers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hongkiat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Shutter Shock, Think Stock, n.d. Web. 15 Jan. 2011. &lt;www.hongkiat.com/blog/60-attractive-ps3-game-covers/ &gt;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Gender Affect Game Reviews?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gamepro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AlienWare, 1 Oct. 2010. Web. 5 Jan. 2011. &lt;www.gamepro.com/article/news/216772/does-gender-affect-game-reviews &gt;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tfield, Daemon. "What's On The Box?!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ign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Red Bull, 30 July 2010. Web. 19 Jan. 2011. &lt;video.ign.com/dor/articles/894993/ign-game-scoop-tv-how-do-normal-people-see-videogame-box-art/videos/gstv_spc_073010b.html &gt;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oes gender and cover change what video games people are interested i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56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guess is that a female would want to play a game with a female on the cov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lso think a male would want to play a game with a male or guns on the fro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886200" y="4067280"/>
            <a:ext cx="4457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 game cov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et for testers to fill 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t the testers, 4 of each gender into room,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 at a tim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them write which one looks better to the and wh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ile answers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are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w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l Fantasy 13 with 2 girl votes, and Little Big Planet 2 with 2 boy votes tied for fir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lo 3 with 1 boy and 1 girl vote was voted wor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d Best Co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178080" cy="4497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295280"/>
            <a:ext cx="2946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Girl V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768480" cy="4724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724280" y="1447920"/>
            <a:ext cx="299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Boy V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d Worst Co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124080" y="1751040"/>
            <a:ext cx="3573720" cy="5106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209680" y="1143000"/>
            <a:ext cx="553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Boy Vote 1 Girl Vo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as overall surprised at the results of my small survey. I thought the Boys would vote Little Big Planet 2 the worst, but in fact it got most popular with boys. I wasn’t surprised on how the Girls liked Final Fantasy more thoug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as surprised that HALO 3 of all things got last with 1 of the 2 votes being ma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56:54Z</dcterms:created>
  <dc:creator>USD376</dc:creator>
  <dc:description/>
  <dc:language>en-US</dc:language>
  <cp:lastModifiedBy>STERLING  USD376</cp:lastModifiedBy>
  <dcterms:modified xsi:type="dcterms:W3CDTF">2011-02-23T14:55:29Z</dcterms:modified>
  <cp:revision>8</cp:revision>
  <dc:subject/>
  <dc:title>The</dc:title>
</cp:coreProperties>
</file>